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8BE1-7D24-40A8-A4A7-878E07F7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680" y="429336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030-2BDC-47F4-97CE-F15E5C66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1284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29D5-D0C9-4BBD-B45A-F8C1B8B3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0056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3980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168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0056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3980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3A93-BBFE-4818-B3E7-8C002DE2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34C4-0618-46A4-B020-5424C837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E02B-F994-4C74-B35F-F6A648CC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0A78-E6FF-4F4D-B89D-1CFA187B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DDBE-1446-42DF-A761-2E86022E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AEDF-6DE7-4FFA-B399-8A34369F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1D80-CF52-4213-A32C-13135442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7B39-A078-4B43-9D0D-9F8EF920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DE8-DB4E-4112-9435-151CB1AC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1284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ABDA-9C9D-4823-89AD-F70CC9ED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9F69-4A7B-40F6-AE1A-E082E416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1680" y="429336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86AA-FD4F-44B9-9240-9F9D02A4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1284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B81E-B140-4364-B176-CF64D659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0056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39800" y="190512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168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0056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39800" y="4293360"/>
            <a:ext cx="260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86F7-DAC6-4DFF-82F1-0B39CC8D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FBA0-6715-436E-AB2F-23854851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B2F1-16E8-4DFF-8970-C9D2F9B1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FB0-8D14-404C-A545-4ADE171B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22FB-B037-46B8-AAB9-312C2A97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EA1D-A8F7-450F-9D3B-2A81BC2A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12840" y="429336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F106-CD2E-46B1-BBF2-E33E9C16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2840" y="1905120"/>
            <a:ext cx="3953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1680" y="4293360"/>
            <a:ext cx="81010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D6A9-7EA6-4CF7-A05D-D1C36FF9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CBD8-1BF8-4CDE-8BB2-54BD9FBACA3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BBFE-80F9-46D3-961F-4AD86D4D026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The Book of Job (1)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42640" y="49525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Quarter 5, Lesson 1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United Kingdom, Part 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ges 138-143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1:1-5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righteous man blessed by G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rom the land of Uz, to the East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patriarch who offered sacrifi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ne who feared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ny rich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large family (ten children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very great household (servant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ny frien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greatest of all the men of the Ea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1:6-12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atan slanders his charac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cused Job of serving God only because God had blessed h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atan asked God, “Does Job fear God for nothing?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f stripped of his blessings, he would curse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1:13-22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d accepted Satan’s challen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 allowed Satan to strip him of all of his possessions and his childr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herds of oxen were stol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sheep (7,000) killed by a thunderstor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vast herds of camels were stol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10 children killed by a strong win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 did not sin nor curse G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8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1:13-22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’s reactio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:21 (ESV)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d he said, "Naked I came from my mother's womb, and naked shall I return. The Lord gave, and the Lord has taken away; blessed be the name of the Lord."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 did not sin nor curse G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4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4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4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4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4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4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4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4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2:1-13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2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atan made another challen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f his health is taken away, he will curse G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mitten by the most painful disease known to the ancient world (boils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is wife thought he should curse God and di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ven Job’s friends finally blamed him for his afflictions – said he was wick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 did not sin nor curse G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8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8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8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Story of Job</a:t>
            </a:r>
            <a:br>
              <a:rPr sz="4000"/>
            </a:b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hapter 2:1-13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2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the next lesson, we will discus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rest of the sto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cusations made by Job’s frien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w Job answer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a young man told Job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od’s response to the occas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finally happened to Job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8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8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8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8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8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he Wisdom Literature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, Psalms, Proverbs, Ecclesiastes, and Song of Solomon often called – “poetry” but they are more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contain “Wisdom Literature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deal with man’s approach to life on earth in all its aspec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ir messages are found in groups of phrases and express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Purpose of the Writings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82533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 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 do men serve God?  Is it for gain, or is it because of devotion and commitmen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salms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Jewish hymnal – praises, prayers to express our sacred and holy though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Purpose of the Writings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verbs 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collection of principles and axioms containing the distilled wisdom of all the ages – principles of living righ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cclesiastes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is the meaning of “life under the sun”?  What really matters in life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Purpose of the Writings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81010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ng of Solomon 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love son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als with the feelings of affection, romance, and sexual attraction leading up to marria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ime of the Writings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st of the books were written by David and Solomon during the period of the United Kingd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member Solomon’s wisdom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Read 1 Kings 4:29-33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Time of the Writings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83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Book of Job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triarchal period; God spoke directly and Job offered sacrifices; God’s serva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isdom literature; Solomon and Davi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riends; descendants of Abraha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ng life; Job lived 140 years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after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he was re-establish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 mention of Israel or the la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bably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fter Abraham, before Solom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Scope of Our Study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8101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 obtain a general overview of the whole Bible as it pertains to God’s plan of redemp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e will discuss the “gist” of each book with some of their practical lessons for u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e will not go into a detailed study of each boo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Four Important Questions: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ffffcc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o men serve God only for the blessings He giv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ffffcc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 suffering always a sign of God’s wrath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ffffcc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r, is prosperity always a sign of God’s pleasure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ffffcc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o we have a right to question God about why He does the things He does, or why He allows the things He allow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12:16:26Z</dcterms:created>
  <dc:creator>Frank D Vines</dc:creator>
  <dc:description/>
  <dc:language>en-US</dc:language>
  <cp:lastModifiedBy>Frank D Vines</cp:lastModifiedBy>
  <dcterms:modified xsi:type="dcterms:W3CDTF">2005-06-01T04:37:54Z</dcterms:modified>
  <cp:revision>33</cp:revision>
  <dc:subject/>
  <dc:title>Job</dc:title>
</cp:coreProperties>
</file>